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3E7-780E-42EA-AC66-417386A1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8C6-3FA9-46C7-B5F3-536003EA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0F8-1669-40C8-B944-6D3AD49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6FC-598B-49B3-A789-562C3D3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303-84A3-4BA1-94F7-4A2911E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EDB-4B5E-4173-AA27-D1531D5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4B3-5F3A-48E9-B04D-9C7281CD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085-C8F9-4337-AB52-320B261E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494-3AF7-4F0C-8B41-D2AF762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843-FC66-4A21-B8D8-5A1E2653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7E9-3E74-4F23-A9A4-C06EA33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B65-CEF1-4CA9-9372-980F7A10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673-8409-4F42-831D-E02CA8AD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41400" y="2343960"/>
            <a:ext cx="11030040" cy="405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Учителю небесни,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сети ни в тоз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помогни с молби 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еб да славим, милий Спас! :]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756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497880" y="3158640"/>
            <a:ext cx="101444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ние чада да станем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помогни ни Ти сега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Дай такива да остан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ука и през вечността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3640" y="3229920"/>
            <a:ext cx="92563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Твои агънца да бъдем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ние послушни всеки час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както Ти бе на земята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не жертвено за нас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514800" y="3158640"/>
            <a:ext cx="1017504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4. </a:t>
            </a: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О, Ти Пастирю небесни,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агънцата Си води!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[: Ще Ти пеем хвални песни</a:t>
            </a:r>
            <a:br>
              <a:rPr sz="5400"/>
            </a:br>
            <a:r>
              <a:rPr b="1" lang="bg-BG" sz="5400" spc="-1" strike="noStrike">
                <a:solidFill>
                  <a:srgbClr val="ffffff"/>
                </a:solidFill>
                <a:latin typeface="Monotype Corsiva"/>
              </a:rPr>
              <a:t>в рая, там ни заведи! :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17:50Z</dcterms:created>
  <dc:creator>TrifonTrifonow</dc:creator>
  <dc:description/>
  <dc:language>en-US</dc:language>
  <cp:lastModifiedBy>TrifonTrifonow</cp:lastModifiedBy>
  <dcterms:modified xsi:type="dcterms:W3CDTF">2005-10-20T16:51:21Z</dcterms:modified>
  <cp:revision>4</cp:revision>
  <dc:subject/>
  <dc:title>Slide 1</dc:title>
</cp:coreProperties>
</file>